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8.jpeg" ContentType="image/jpeg"/>
  <Override PartName="/ppt/media/image17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15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1641-F363-47F6-9569-AF2B92709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lular component ontology also has a 3D interpretation…this can be made explicit by augmenting the cellular location ontology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learly expressed relations of part-hood, adjacency et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hese terms can also be ‘linked’ to a set of co-ordinates in an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ssue ignored by most ontologies is the time-dependence of annotations. A particular gene product is in a particular cellular compartment at a particular time…and that can change at a subsequent time. Most current GO analyses programs do not factor in the temporal dimension, which I believe is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[See the slide in “view slide show” mode to see the anim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both time and 3d structure matter. Where is a signal sensed? How fast does it travel to the next agent (and where?)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ourse, mRNA levels are just part of the story. We’ll need to integrate a lot more data 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expression, Histopathology images, Protein modifications, interaction partners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eping in mind the relative orientation (temporal and spatial) of the e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we had all the data explicitly annotated with ontologies that express these relationships, we can perform more “rich” data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[See the slide in “view slide show” mode to see the anim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pplications exist to analyze gene lists using the Gene Ontology. Very few applications attempt to “correlate” the annotations in a given GO aspect with the shapes of the gene expression profiles and annotations in the remaining two GO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believe that the tuple of mf, bp, cl conveys a lot more meaning than a single annotation in any one of the orthogonal GO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, a sentence conveying &lt;Some molecular function&gt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some biological process&gt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some cellular location&gt; is more meaningful than the three terms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data from a particular experiment are analyzed using a “low” level ontology such as the GO…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e need a “high” level ontology to capture the res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currently the results are articulated in natural language in a paper (which some one has to “mine” using text analysis and other ontologi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L provides the grammar of generating (or reducing) GO terms and demonstrates that they are more “regular” than natural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ntology provides a clear definition of basic relations in bio-medicine in an attempt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tain clear semantics of the rel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all ontolo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data from a particular experiment are analyzed using a “low” level ontology such as the GO…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need a “high” level ontology to capture the res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currently the results are articulated in natural language in a paper (which some one has to “mine” using text analysis and other ontologi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ould be a lot better if we articulated our “conclusions” in an ontology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 to integrate multiple knowledge sources via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ever, simple mapping is not enough! I believe that we also need to specify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OW TO COMBI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erms from different ontologies as “terminals” to create a production at a high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lead into next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C94-D7B0-40D4-A054-EB3CC0BC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38A-2446-48A3-A9C5-1C5CC116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A5F-1831-44EB-BC1D-FDCFEFE3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968-904F-4F8F-ACF7-12C9E061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F84-0EBF-4670-A345-B026744D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D26-42AB-44CB-A71C-B061AF5F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F7C-DF93-4D11-AB39-218F3CC2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AE9-06A5-4720-8592-1C39ED9C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AF0-FDC3-4C59-98CA-C768ECB9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33D-DB19-419C-840E-C74F2230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31B-18E6-4B35-8130-08D389C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C89-3893-4908-8024-85CF452F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D3C5-9FBA-4136-895C-49E3B42C606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762120"/>
            <a:ext cx="7458120" cy="90360"/>
          </a:xfrm>
          <a:custGeom>
            <a:avLst/>
            <a:gdLst/>
            <a:ahLst/>
            <a:rect l="l" t="t" r="r" b="b"/>
            <a:pathLst>
              <a:path w="4753" h="1">
                <a:moveTo>
                  <a:pt x="0" y="0"/>
                </a:moveTo>
                <a:lnTo>
                  <a:pt x="4752" y="0"/>
                </a:lnTo>
                <a:lnTo>
                  <a:pt x="474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mantically rich annotation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419800" cy="601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1328760"/>
            <a:ext cx="3505320" cy="202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81680" y="5867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5940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7086240" y="4038480"/>
            <a:ext cx="609840" cy="1066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66680"/>
              <a:gd name="textAreaBottom" fmla="*/ 1037160 h 1066680"/>
            </a:gdLst>
            <a:ahLst/>
            <a:rect l="textAreaLeft" t="textAreaTop" r="textAreaRight" b="textAreaBottom"/>
            <a:pathLst>
              <a:path w="21600" h="37771">
                <a:moveTo>
                  <a:pt x="3600" y="0"/>
                </a:moveTo>
                <a:arcTo wR="3600" hR="3600" stAng="16200000" swAng="-5400000"/>
                <a:lnTo>
                  <a:pt x="0" y="34171"/>
                </a:lnTo>
                <a:arcTo wR="3600" hR="3600" stAng="10800000" swAng="-5400000"/>
                <a:lnTo>
                  <a:pt x="18000" y="3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7049880" y="3465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-1440"/>
            <a:ext cx="87631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-6480"/>
            <a:ext cx="83822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: Create an iconic mapping for cl terms to facilitate novel analyse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3D structure of the cell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8280" y="1219320"/>
            <a:ext cx="279720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60880" y="2330280"/>
            <a:ext cx="5730840" cy="4299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yoff: If we have iconic mapping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We ca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wse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ontologies in an anatomy centered manner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Can use these new views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acilitating the annotation proces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.e. improve curator </a:t>
            </a: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annotation tool interaction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Creat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ovel visualizations for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terpreting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high dimensional dataset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Time course data </a:t>
            </a:r>
            <a:r>
              <a:rPr b="0" lang="en-US" sz="1400" spc="-1" strike="noStrike">
                <a:solidFill>
                  <a:srgbClr val="ffcc00"/>
                </a:solidFill>
                <a:latin typeface="Garamond"/>
              </a:rPr>
              <a:t>[coming few slides later]</a:t>
            </a:r>
            <a:endParaRPr b="0" lang="en-US" sz="1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tegrating gene expression, protein expression and metabolomic datasets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the temporal dimension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Overlay time course data onto the GO tree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See how the ‘enriched’ categories change over time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Understand the dynamics of the biological phenomenon being studied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54200" indent="-3477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Will complement pathway based analysis approaches</a:t>
            </a:r>
            <a:endParaRPr b="0" lang="en-US" sz="18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6386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w about cell structure and time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3432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920" y="1211400"/>
            <a:ext cx="2833560" cy="343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920" y="1219320"/>
            <a:ext cx="2833560" cy="34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354480" y="2421000"/>
            <a:ext cx="57132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GO based analysis of microarray data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9720" y="844560"/>
            <a:ext cx="78627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F-binding site &amp; Annotation data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9800" y="2514600"/>
            <a:ext cx="1892520" cy="42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1727280"/>
            <a:ext cx="5557680" cy="3454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2952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F-sites show that th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BRE and GBF sites are enriched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in these ge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5334120"/>
            <a:ext cx="586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omponent and function annotations show that these genes ar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ocated in the chloroplast thylakoid membrane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, ar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rt of the light-harvesting complex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and have the molecul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function of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chlorophyll binding and electron transport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ench is useful … but we need more!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971800"/>
          </a:xfrm>
          <a:prstGeom prst="rect">
            <a:avLst/>
          </a:prstGeom>
          <a:solidFill>
            <a:srgbClr val="eaeaea"/>
          </a:solidFill>
          <a:ln w="3168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ench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elps the biologist interpret a list of gene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 form a result statement such as: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photosynthesis genes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located in 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chloroplast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ar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repressed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in response to ozone stress and have 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ABRE binding site enriched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in their promoters.</a:t>
            </a:r>
            <a:endParaRPr b="0" lang="en-US" sz="22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re at www.personal.psu.edu/nhs109/Clench</a:t>
            </a:r>
            <a:endParaRPr b="0" lang="en-US" sz="26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ithin-ontology “grammars”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440" y="1523880"/>
            <a:ext cx="380988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531972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9880" y="3200400"/>
            <a:ext cx="7621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722000">
            <a:off x="4343040" y="4626000"/>
            <a:ext cx="685800" cy="250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4724280"/>
            <a:ext cx="7621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31240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O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43434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Relations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tween-ontology “grammars”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047760" cy="19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3047760" cy="19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cxnSp>
        <p:nvCxnSpPr>
          <p:cNvPr id="72" name=""/>
          <p:cNvCxnSpPr/>
          <p:nvPr/>
        </p:nvCxnSpPr>
        <p:spPr>
          <a:xfrm flipH="1" rot="16200000">
            <a:off x="3846240" y="495720"/>
            <a:ext cx="2520" cy="5258520"/>
          </a:xfrm>
          <a:prstGeom prst="curvedConnector5">
            <a:avLst>
              <a:gd name="adj1" fmla="val 132400000"/>
              <a:gd name="adj2" fmla="val 50000"/>
              <a:gd name="adj3" fmla="val 132400000"/>
            </a:avLst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124080" y="45259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?&lt;link&gt;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5334120"/>
            <a:ext cx="50292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&lt;Some MF&gt;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&lt;Some B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Payoff: If we have between-ontology grammars</a:t>
            </a:r>
            <a:endParaRPr b="1" lang="en-US" sz="28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systematically store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terpretations (or results)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of GO based analyse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browse [gene-expression] data in [particular ontology] centri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iew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Work of Gennari et al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creat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emantically rich annotation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that span multiple ontologi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oring GO based analysis report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4680" y="763560"/>
            <a:ext cx="8096040" cy="607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49680" y="2847960"/>
            <a:ext cx="4480200" cy="11080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photosynthesis gene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located in the chloroplast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repress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response to ozone stress and have the ABRE binding site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enrich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their promo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201000" y="4372560"/>
            <a:ext cx="1030320" cy="546120"/>
          </a:xfrm>
          <a:custGeom>
            <a:avLst/>
            <a:gdLst>
              <a:gd name="textAreaLeft" fmla="*/ 160920 w 1030320"/>
              <a:gd name="textAreaRight" fmla="*/ 871920 w 1030320"/>
              <a:gd name="textAreaTop" fmla="*/ 108720 h 546120"/>
              <a:gd name="textAreaBottom" fmla="*/ 437400 h 546120"/>
            </a:gdLst>
            <a:ahLst/>
            <a:rect l="textAreaLeft" t="textAreaTop" r="textAreaRight" b="textAreaBottom"/>
            <a:pathLst>
              <a:path w="21600" h="21600">
                <a:moveTo>
                  <a:pt x="3375" y="4299"/>
                </a:moveTo>
                <a:lnTo>
                  <a:pt x="16085" y="4299"/>
                </a:ln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16085" y="17301"/>
                </a:lnTo>
                <a:lnTo>
                  <a:pt x="3375" y="17301"/>
                </a:lnTo>
                <a:close/>
              </a:path>
              <a:path w="21600" h="21600">
                <a:moveTo>
                  <a:pt x="0" y="4299"/>
                </a:moveTo>
                <a:lnTo>
                  <a:pt x="675" y="4299"/>
                </a:lnTo>
                <a:lnTo>
                  <a:pt x="675" y="17301"/>
                </a:lnTo>
                <a:lnTo>
                  <a:pt x="0" y="17301"/>
                </a:lnTo>
                <a:close/>
              </a:path>
              <a:path w="21600" h="21600">
                <a:moveTo>
                  <a:pt x="1350" y="4299"/>
                </a:moveTo>
                <a:lnTo>
                  <a:pt x="2700" y="4299"/>
                </a:lnTo>
                <a:lnTo>
                  <a:pt x="2700" y="17301"/>
                </a:lnTo>
                <a:lnTo>
                  <a:pt x="1350" y="1730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3440" y="5351400"/>
            <a:ext cx="4480200" cy="1346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genes of the photosynthesis protein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located in the chloroplast show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decrease in their mRNA level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response to ozone stress and have the ABRE binding site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enrich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their promo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natomy centric views by Gennari et al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stablished links between the cellular structure terms in FMA and the GO cellular component term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Did it for 150 terms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stablished links between tissue-region annotations and brain anatomy terms in FMA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4120" y="1508040"/>
            <a:ext cx="3352680" cy="193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4173480"/>
            <a:ext cx="34290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is associated with cellular prolif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o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is associated with neuronal degen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b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s &lt;mf&gt; 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ellular prolif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o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gam Shah</cp:lastModifiedBy>
  <dcterms:modified xsi:type="dcterms:W3CDTF">2005-11-10T23:58:18Z</dcterms:modified>
  <cp:revision>44</cp:revision>
  <dc:subject/>
  <dc:title>PowerPoint Presentation</dc:title>
</cp:coreProperties>
</file>